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98CA-377B-4FF4-8D48-B92186C96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6A78-67A3-461D-B58C-903DD64D1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161E-5573-4C23-A2F0-74DB43821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7F50-EF50-4586-99A3-F2F841B8D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BDBD-FAC7-417E-B198-DF369C662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A95E-FBF0-4940-BCA9-B8C9B645E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F101-1E56-4BB1-951B-E9367CCC0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A8FF-3760-4BD1-9DA2-CC38C6215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108D-5182-4A01-B70E-4646312E1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38A4-20F7-4E6C-AC2E-78E212B73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ADFC-606D-4F2D-B474-09347731A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FC80-73A9-4AAB-B902-DE8C8D9DF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E487-6CCB-44AB-BDA2-6E740084CE7A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VC (Model-View-Control) alapú TableView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ction létrehozása, és felhasználása különböző helyek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ez még mindig „halott” plugin. Igazából semmit nem csiná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7BE8-81B2-413D-8CB0-C3CEE38543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BEB5-C8C4-4E1B-B5F2-1B7D70D5C0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ava.util.Properties a modell (init és dispose függvények szerepe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ódosított tábláza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dd, edit, remove ak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k meg kiegészíteni egy PreferencePage-el, ahol a properties fájl megadására van lehetőségü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74C7-CF38-4FF8-91D8-183232BDE9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World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39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06DD-9CA2-46A7-9F76-2AA8E1D067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szt SDK létrehoz egy teszt workspace könyvtárat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untime-EclipseApplicatio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az már ismeretes minden beállítás a workspaceben tárolódik a projektekkel együ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pló állomány is itt található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.lo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 Ennek fontos szerepe van a fejlesztés sor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ükség esetén ez a teszt workspace bármikor törölhet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D51E-2A35-4AB8-BB0E-F62D156628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duláskor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 load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betölti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clipse/plugin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n lévő összes plugin leíróját (plugin.xm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egállapítja a plugin szolgáltatásai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üggőségeket vizsgá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em példányosít – Lazy loadin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ek betöltése után megjelenik az SD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ővítési pontokon (extension points) fejti ki a „hatását” a plu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nek saját ID-ja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625E-9DEE-4F4F-8354-17003CE2BE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Plugin.xml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?eclipse version="3.2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lugi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xtension point="org.eclipse.ui.actionSets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ctionSet label="Sample Action Set" visible="true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="org.me.plugin.sample1.actionSe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menu label="Sample &amp;amp;Menu" id="sampleMenu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eparator name="sampleGroup"&gt;&lt;/separat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menu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ction label="&amp;amp;Sample Action" icon="icons/sample.gif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="org.me.plugin.sample1.actions.SampleActio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tip="Hello, Eclipse world" menubarPath="sampleMenu/sampleGroup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barPath="sampleGroup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="org.me.plugin.sample1.actions.SampleAction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c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ctionSe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ext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F92E-0C40-4B6A-93AD-17AA62BB9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Manifest Editor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javasolt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uild.properti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rkesztése kézz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verview – Összefoglalás a plugin legfontosabb tulajdonságairól. A teszt SDK indítása és a plugin exportálása is itt tal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pendencies – A függőségeket tartalmazza.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equired Plug-in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kció az egyéb használt plugineket írja 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1DE5-FB48-4C84-89AB-13475DD87E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Manifest Editor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untime –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xported Packag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kció tartalmazza azokat a packageket, amiket további pluginek láthatnak a saját pluginben.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Classpath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kció a third party libek felsorolására ad lehetősé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sions – A használt bővítési pontokat adja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sion Points – Új bővítési pontok létrehozására alkal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uild – Az exportálás beállításit tartalmaz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7D22-2B6C-442D-872C-56A1048878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Plugin Class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 aktiválásakor példányosodik, és csakis egy példányban minden más class elő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vetően nem érdekes, de később még lesz szerepe képek használata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F649-4447-467A-B903-914C19DDC9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F7C1-7F43-4983-A4AB-BE3F191E9E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1T10:40:42Z</dcterms:modified>
  <cp:revision>543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